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724640"/>
            <a:ext cx="860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50760" y="238716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60640" y="238716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72464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50760" y="472464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60640" y="472464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724640"/>
            <a:ext cx="860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724640"/>
            <a:ext cx="860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38716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38716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72464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72464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724640"/>
            <a:ext cx="277092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72464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387160"/>
            <a:ext cx="41994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724640"/>
            <a:ext cx="8605800" cy="213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593280"/>
            <a:ext cx="86076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Методы абсорбционного фотометрического анализ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измерять абсорбционность или светопропускание (прозрачность) растворов в диапазоне 400-700 нм.От источника(лампы) 1 луч проходит через светофильтр 2, пропускающий определенную часть света, и спомощью конденсора 3 направляется в кювету с раствором 4.Далее ослабленный световой поток через клин 5 попадает на фотоэлемент 6.Однолучевые фотоколориметры нормально работают только при постоянной интенсивнности с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совершены фотоэлектрические колориметры с двумя фотоэлементами , например колориметры ФЭК-М,ФЭК-56,ФЭК-56М или ФЭК-Н-56.Получаемые с их помощью отсчеты меньше зависят от колебаний тока в цеп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860580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ципиальная оптическая схема дифференциальных фотоэлектроколоримет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3" descr="~к~а~а~2540.jpg"/>
          <p:cNvPicPr/>
          <p:nvPr/>
        </p:nvPicPr>
        <p:blipFill>
          <a:blip r:embed="rId1"/>
          <a:stretch/>
        </p:blipFill>
        <p:spPr>
          <a:xfrm>
            <a:off x="1825560" y="2674800"/>
            <a:ext cx="714384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источника света 1 световые лучи идут в двух противоположных направлениях, отражаясь зеркалами 2 и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ходят через светофильтры 3 и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две кюветы с растворами 4 и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падают на селеновые фотоэлементы 5 и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Кроме того  на пути левого пучка света, падающего на фотоэлемент 5, расположены нейтральные клинья 6 и 7, а а на пути правого пучка света, попадающего на фотоэлемент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ходятся щелевая диафрагма 8, связанная с двумя отсчетными бараба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860580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тоэлектроколориметры – нефелометры ФЭК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ФЭК-56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ют собой двулучевые (двухканальные) приборы, предназначенны для определения концентрации вещества в окрашеннх или коллоидных растворах путем сравнения их абсорбционностью стандартных растворов в диапазоне длин волн 315-670 н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07720"/>
            <a:ext cx="908532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электрический колориметр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ЭК-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40880" y="2279160"/>
            <a:ext cx="933948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электрический колоримет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ЭК-60 предназначен для определения концентраций окрашенных растворов, взвесей, эмульсий и коллоидных растворов путем сравнения световых потоков, проходящих через образцовую и испытуемую жидкости, или путем предварительной градуировки прибора по набору стандартных растворов различных концентраций. Измерения производятся в интервале длин волн спектра от 360 нм до 1000 нм. Цена деления шкалы светопропускания измерительной диафрагмы 0.5%. Прибор обеспечивает измерение светопропускания с абсолютной погрешностью ±1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электрический колориметр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ЭК-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5" descr="033bUf61E339x1X1u0v5.png"/>
          <p:cNvPicPr/>
          <p:nvPr/>
        </p:nvPicPr>
        <p:blipFill>
          <a:blip r:embed="rId1"/>
          <a:stretch/>
        </p:blipFill>
        <p:spPr>
          <a:xfrm>
            <a:off x="1968480" y="2387520"/>
            <a:ext cx="6143760" cy="4475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933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электроколориметр ФЭК-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электрический колориметр-нефелометр ФЭК-56 предназначается для измерения оптической плотности или светопропускания жидких растворов, как абсолютным методом, т. е. по отношению к растворителю, так и относительным методом, т. е. по отношению к эталонному раствору.Прибор позволяет так же производить измерение светорассеивания взвесей, эмульсий и коллоидных растворов в проходящем све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электроколориметр ФЭК-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3" descr="pandiv4.jpg"/>
          <p:cNvPicPr/>
          <p:nvPr/>
        </p:nvPicPr>
        <p:blipFill>
          <a:blip r:embed="rId1"/>
          <a:stretch/>
        </p:blipFill>
        <p:spPr>
          <a:xfrm>
            <a:off x="4254480" y="4422600"/>
            <a:ext cx="5286240" cy="27864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pandiv3.jpg"/>
          <p:cNvPicPr/>
          <p:nvPr/>
        </p:nvPicPr>
        <p:blipFill>
          <a:blip r:embed="rId2"/>
          <a:stretch/>
        </p:blipFill>
        <p:spPr>
          <a:xfrm>
            <a:off x="1182600" y="2549520"/>
            <a:ext cx="29656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электроколориметр КФК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40880" y="2065320"/>
            <a:ext cx="860580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колориметр КФК 2 – это измерительный прибор, разработанный специально для определения коэффициента пропускания, а также оптической плотности растворов жидкостей и твердых тел, в отдельных участках диапазона длин волн от 315 до 980 нм. Кроме того, колориметр КФК 2 может быть использован для замера концентрации веществ в растворах, при помощи метода построения градуировочных графиков. Обладает фотоколориметр КФК 2 и возможностью определять коэффициент пропускания эмульсий, коллоидных растворов и рассеивающих взвесей в проходящем с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40880" y="2136600"/>
            <a:ext cx="860580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метрический анализ относится к абсорбционным методам, т.е. основан на измерении поглощения света веществом.Он включает спектрофотометрию, фотоколориметрию и визуальную фотометрию, которую обычно называют колориметрией. Каждое вещество поглощает излучение с определенными (характерные только для него) длинами волн, т.е. длина волны поглощаемого излучения индивидуальна для каждого вещества, и на этом основан качественный анализ по светопоглощ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тоэлектроколориметр КФК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Содержимое 3" descr="images.jpg"/>
          <p:cNvPicPr/>
          <p:nvPr/>
        </p:nvPicPr>
        <p:blipFill>
          <a:blip r:embed="rId1"/>
          <a:stretch/>
        </p:blipFill>
        <p:spPr>
          <a:xfrm>
            <a:off x="1111320" y="2422440"/>
            <a:ext cx="306396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29.jpg"/>
          <p:cNvPicPr/>
          <p:nvPr/>
        </p:nvPicPr>
        <p:blipFill>
          <a:blip r:embed="rId2"/>
          <a:stretch/>
        </p:blipFill>
        <p:spPr>
          <a:xfrm>
            <a:off x="4183200" y="2922480"/>
            <a:ext cx="507204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96680" y="3203280"/>
            <a:ext cx="856764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ИБО ЗА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860580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Основной закон светопоглощения(Закон Бугера-Ламберта-Бера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между интенсивностью окраски раствора и содержанием в нем окрашенного вещества описывается законом Бугера - Ламберта – Бера и выражается уравн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Arial"/>
              </a:rPr>
              <a:t>пр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‧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сℓ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сть потока света,прошедшего через раствор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вность потока света,падающего на раствор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молярный коэффициент поглощения (л/моль‧см), );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нцентрация поглощающего вещества (моль/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-360"/>
            <a:ext cx="860580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Основной закон светопоглощения(Закон Бугера-Ламберта-Бера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40880" y="2387160"/>
            <a:ext cx="8605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ологарифмировать это уравнение и изменить знаки на обратные, то оно принимает следующий ви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важнейшешей характеристикой окрашенного раствора,ее называют абсорбционностью(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овательно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бсорбционность раствора прямо пропорциональна концентрации окрашеного вещества и толщине слоя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607600" cy="188928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Основной закон светопоглощения(Закон Бугера-Ламберта-Бера)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й смысл закона Бугера –Ламберта – Бера - состоит в следующем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творы одного и того же окрашенного вещества при одинаковой его концентрации и толщине слоя, а также при прочих равных условияхпоглощают одну и ту же долю падающегона них свет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аче,говоря светопоглощение таких растворов одинаков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иметь в виду, что закон Бугера – Ламберта – Бера справедлив для весьма разбавленных растворов и область применения его ограничена рядов факторов(изменением концентрации водородных ионов, присутствием посторонних электролитов, разбавлением раствора или изменение его темпера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Фотоколориметрический метод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токолориметрический метод оценки интенсивности окраски растворов основан на использовании фотоэлемента.В последнем слой полупроводника нанесен на металлическую пластинку.Световой поток, попадая в фотоэлемент, возбуждает электрический ток, сила которого определенным образом зависит от интенсивности освещ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Непосредственное наблюдение окраски заменяется показаниями гальвано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т фотоэлектроколориметры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ямого 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днолуче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 одним оптическим канало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ференциальные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двулуче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мя оптическими канала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имеют один фотоэлемент, а вторые – два и называются фотоколориметрами с оптической или электрической компенса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Фотоколориметрический метод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8040" y="35064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414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тическая схема колориметра фотоэлектрического однолучевого КФ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72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~к~а~а~2539.jpg"/>
          <p:cNvPicPr/>
          <p:nvPr/>
        </p:nvPicPr>
        <p:blipFill>
          <a:blip r:embed="rId1"/>
          <a:stretch/>
        </p:blipFill>
        <p:spPr>
          <a:xfrm>
            <a:off x="1968480" y="2351160"/>
            <a:ext cx="692928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9:11:52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Пользователь</cp:lastModifiedBy>
  <dcterms:modified xsi:type="dcterms:W3CDTF">2012-06-28T08:08:07Z</dcterms:modified>
  <cp:revision>28</cp:revision>
  <dc:subject/>
  <dc:title>Предложение стратегии</dc:title>
</cp:coreProperties>
</file>